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D75CF-2B27-4487-8059-272D3B34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1F6AE-D282-476F-82A8-FEBD317B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74345-75C9-4356-88D8-653FA96BD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266F1-3574-4E61-964B-2BDB71A4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31469-B0DA-4B00-8AEE-7F17DFA8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1B044-8E69-4279-A326-70140856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A59F9-C338-43A1-88F4-6CC46C4F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A905-88F4-42B7-9D96-7FB16101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A6F4-0A96-4FC3-BB79-350BD550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080DF-83CA-4E15-9402-D2E73B39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30FB-3CB4-4520-AD43-DE1FE325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B1FC-95FC-46AD-A393-BA7579F22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A850-DEFA-467C-8BE3-E1552C86BF0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0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Models For L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ugh’s Model</a:t>
            </a:r>
            <a:endParaRPr b="0" lang="en-US" sz="4400" spc="-1" strike="noStrike">
              <a:solidFill>
                <a:srgbClr val="000000"/>
              </a:solidFill>
              <a:latin typeface="Calibri"/>
            </a:endParaRPr>
          </a:p>
        </p:txBody>
      </p:sp>
      <p:pic>
        <p:nvPicPr>
          <p:cNvPr id="43" name="Picture 2" descr="http://www.bbc.co.uk/schools/gcsebitesize/geography/images/set_012.gif"/>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ed on cities of the developing world, using some of the ideas found in the </a:t>
            </a:r>
            <a:r>
              <a:rPr b="1" lang="en-US" sz="2600" spc="-1" strike="noStrike">
                <a:solidFill>
                  <a:srgbClr val="000000"/>
                </a:solidFill>
                <a:latin typeface="Calibri"/>
              </a:rPr>
              <a:t>MEDC</a:t>
            </a:r>
            <a:r>
              <a:rPr b="0" lang="en-US" sz="2600" spc="-1" strike="noStrike">
                <a:solidFill>
                  <a:srgbClr val="000000"/>
                </a:solidFill>
                <a:latin typeface="Calibri"/>
              </a:rPr>
              <a:t> models, but also incorporating the urban features only found in </a:t>
            </a:r>
            <a:r>
              <a:rPr b="1" lang="en-US" sz="2600" spc="-1" strike="noStrike">
                <a:solidFill>
                  <a:srgbClr val="000000"/>
                </a:solidFill>
                <a:latin typeface="Calibri"/>
              </a:rPr>
              <a:t>LEDC</a:t>
            </a:r>
            <a:r>
              <a:rPr b="0" lang="en-US" sz="2600" spc="-1" strike="noStrike">
                <a:solidFill>
                  <a:srgbClr val="000000"/>
                </a:solidFill>
                <a:latin typeface="Calibri"/>
              </a:rPr>
              <a:t> cit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BD is still central to the urban area, and is the area of highest land pri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around it is the most expensive residential area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some places, such as </a:t>
            </a:r>
            <a:r>
              <a:rPr b="1" lang="en-US" sz="2600" spc="-1" strike="noStrike">
                <a:solidFill>
                  <a:srgbClr val="000000"/>
                </a:solidFill>
                <a:latin typeface="Calibri"/>
              </a:rPr>
              <a:t>Sao Paulo</a:t>
            </a:r>
            <a:r>
              <a:rPr b="0" lang="en-US" sz="2600" spc="-1" strike="noStrike">
                <a:solidFill>
                  <a:srgbClr val="000000"/>
                </a:solidFill>
                <a:latin typeface="Calibri"/>
              </a:rPr>
              <a:t>, this means huge luxurious high-rise apartment blocks, whilst in others, such as Delhi, the former colonial areas are the most lucrative in which to own propert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strial development is along major transport routes, whilst there are also sectors of high-class hous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ost striking difference between the LEDC model and the MEDC models is the remaining residential areas. They have been divided into three sections.The periferia are low class, poor quality houses. However they do have limited amenities and are permanent hom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 All About?</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velas or shanty towns are illegal settlements, where the houses are built from what ever the people can find, and there are no basic ameni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cities, such as Sao Paulo, schemes have been introduced to help the residents of the favelas, and these people can be found in the sector of housing improvements sc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1:05:01Z</dcterms:created>
  <dc:creator>Dell_02</dc:creator>
  <dc:description/>
  <dc:language>en-US</dc:language>
  <cp:lastModifiedBy>Dell_02</cp:lastModifiedBy>
  <dcterms:modified xsi:type="dcterms:W3CDTF">2011-01-26T01:10:08Z</dcterms:modified>
  <cp:revision>1</cp:revision>
  <dc:subject/>
  <dc:title>Urban Models For LEDC’s</dc:title>
</cp:coreProperties>
</file>